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577-8449-4777-ABBA-220CB363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CE1-6D9D-4DE2-89DE-4F88B9C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7EF-6A35-446F-97DB-5E55E8E0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BFC-11F2-4CDA-825B-78A7615A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78D2-D277-49C4-B5D7-5F2A92C5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286-8B1E-44D5-BBDD-2046B569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515-566C-4FC5-A0CE-7805E7F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757D-1BCB-42AF-A168-5F6B78C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447-87E7-44B8-8A13-72679D5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373D-B4C1-4574-BBDC-E8D63275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A55E-B0BD-4354-BFFB-370A029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EB2-760A-4C65-8D8C-FA0F4AD9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362E-7FB5-421C-BAC9-FACACC6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CCF-E14F-47A1-AB66-366C442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C6A6-ABF5-496D-9F94-5AA4F2D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2D1-F02E-45FC-A9F7-1B73EFAE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728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520" y="213372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728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520" y="4044240"/>
            <a:ext cx="2257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6D27-B60C-4D50-BFF5-C671D209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C0A-FBDC-495B-B2DE-A4F3A145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F49-6D38-495A-B0C2-43CFBC7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889-820C-4960-A851-36C85BC3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A33-64C1-4A4D-9E8A-E144DB5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308-100C-4448-84D4-E5F57BA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04424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FC1-B2CC-46D8-969D-2049626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2133720"/>
            <a:ext cx="3421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44240"/>
            <a:ext cx="70106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337-5DC4-49D8-B893-91759A34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1" marL="579240" indent="-22284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2" marL="891360" indent="-178200">
              <a:spcBef>
                <a:spcPts val="901"/>
              </a:spcBef>
              <a:buClr>
                <a:srgbClr val="cc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3" marL="1248120" indent="-178200">
              <a:spcBef>
                <a:spcPts val="901"/>
              </a:spcBef>
              <a:buClr>
                <a:srgbClr val="cc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4" marL="1604520" indent="-178200">
              <a:spcBef>
                <a:spcPts val="901"/>
              </a:spcBef>
              <a:buClr>
                <a:srgbClr val="cc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5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  <a:p>
            <a:pPr lvl="6" marL="1604520" indent="-178200">
              <a:spcBef>
                <a:spcPts val="9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BBB-E356-428C-9CC0-D207511535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D34-E177-4272-91B7-40628746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6934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Click to edit the title text format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24D-7CED-4FC8-AF9A-C0D6C29ED9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3880-F58B-4400-84C0-2BA424761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Click to edit the outline text format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896040" algn="ctr">
              <a:spcBef>
                <a:spcPts val="700"/>
              </a:spcBef>
              <a:buClr>
                <a:srgbClr val="cc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3" marL="1343880" algn="ctr">
              <a:spcBef>
                <a:spcPts val="601"/>
              </a:spcBef>
              <a:buClr>
                <a:srgbClr val="cc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4" marL="1792080" algn="ctr">
              <a:spcBef>
                <a:spcPts val="601"/>
              </a:spcBef>
              <a:buClr>
                <a:srgbClr val="cc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5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6" marL="1792080">
              <a:spcBef>
                <a:spcPts val="601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ndy"/>
              </a:rPr>
              <a:t>Welcome!</a:t>
            </a:r>
            <a:endParaRPr b="0" lang="en-US" sz="72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105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ndy"/>
              </a:rPr>
              <a:t>[Insert Year] School Year</a:t>
            </a:r>
            <a:endParaRPr b="0" lang="en-US" sz="4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School Name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Teacher’s Name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ndy"/>
              </a:rPr>
              <a:t>Grade Level</a:t>
            </a:r>
            <a:endParaRPr b="0" lang="en-US" sz="2000" spc="-1" strike="noStrike">
              <a:solidFill>
                <a:srgbClr val="cc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Goals for the Year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Classroom Policie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01028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pecial Project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Grading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Parent Conferences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ndy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Andy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34800"/>
            <a:ext cx="701064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3:45:54Z</dcterms:created>
  <dc:creator>leypoldt</dc:creator>
  <dc:description/>
  <cp:keywords/>
  <dc:language>en-US</dc:language>
  <cp:lastModifiedBy>leypoldt</cp:lastModifiedBy>
  <cp:lastPrinted>1996-03-19T21:02:48Z</cp:lastPrinted>
  <dcterms:modified xsi:type="dcterms:W3CDTF">2009-03-24T16:52:54Z</dcterms:modified>
  <cp:revision>5</cp:revision>
  <dc:subject/>
  <dc:title>Welcom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33</vt:lpwstr>
  </property>
</Properties>
</file>